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145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14560" y="930708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4A80-407B-4C77-A92B-56F4C3C2555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6767F-125A-4E1E-86CE-63EC8A3B54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5515-7885-4F22-9EC7-B6C93278E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2B0B4-1B7A-4336-9011-6A3F8E5B23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42FD-A424-43BB-9ECA-C0D2D4266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灯片编号占位符 3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4F4A-0F13-4688-9611-5D38686B99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77B2-5A49-4296-8A12-8E0DC1D1E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F6F-97BB-4234-A3E6-1F439833BA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7A75-5B93-4855-9554-468478F49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14920" y="9307440"/>
            <a:ext cx="2919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9D60E-615A-4854-8A39-D1496ACBA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72840" y="4654080"/>
            <a:ext cx="538956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A8B-D2E9-405E-8C42-EF2A9F35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A9F9-CF4E-4D24-9A8D-A9E9F4D64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7187-412B-495F-95E0-198B7D6D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95E-4DC9-4EB5-A805-4D647C1EA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9C3F6-B1E4-43E9-9587-877964007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7ED3-1747-4E1A-B358-B976B630A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9FD25-3C60-49C7-A562-8F9841774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9EFF-CA90-4CEE-95FD-6D945E54B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5207-206B-4B51-8436-36B222BC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73A5-3916-452C-BA3A-5214D0E8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1642-96FC-4C73-A39D-639C4BD4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2035-15F5-4EE2-A0C2-203E355F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1541-C2A7-48AF-A347-45AC8437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B7CE8-8293-4C64-8EA6-B5396D70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4DB54-80D3-4AC0-B0DA-238479CE5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8037-5182-45A8-888A-951B13F3D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BF79-4A88-42C9-A25A-6FD9B6834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A4E658-2BD5-40EB-BBC1-D0957AFF8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695148-F84C-4219-A04B-26F2F352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FD32A-88F2-446A-ABF6-A006D8E3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483508-29CB-4AE1-BFED-B54F8A01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71226B-6D66-41B0-9914-E6B2D1A85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D557-9E77-4679-B0A8-63C8BB45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E230D-2C27-497C-B6B7-03AA36033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0FB60F-70DC-4F85-BD19-4F9B58E9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5C3A6-FB33-4E56-8D36-488FE736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541B39-0A5C-4B4C-A2E7-A242F07E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FAAF6-EC99-4780-9706-ECC5038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9543D5-8CF9-498D-9B84-C7AF0CEF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37EFAD-4F91-444E-807E-349F7DFE5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839AD-E83A-42BE-9893-FA6B3D7E8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8440-DF22-4F46-898D-38B452F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95B86-E98E-4FAD-ACD9-FE39FBD8A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05AD-DFBA-41DC-9A03-E78DCED74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A739-E1F5-4E64-91CA-5BB1273B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7DE06-C245-4BD0-89F4-95C1D541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7BB4F-01E0-49D5-A0B4-6FE668DAE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946A-6C86-43A3-B322-BB6749CE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0242-21AC-4A91-B333-4F5E2173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E00AE-02F7-4D20-9B09-14552F1C2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EC743-C109-47AE-9A2C-445DCA8A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213E-A0C3-49A9-BDCD-42F59DABA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22B7F-9556-4A80-AE50-9EC91F987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3EC7-C49B-40BE-9C6E-34F9A035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1312-B769-4A5C-AE3D-51C09EB58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72B9-A648-45C0-8DF5-505B2A99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688C-DFAC-4FE2-B34E-844B840D6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DE65-3D24-4E50-BC4F-E2FE11E6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0831-EE03-4F64-BFA8-E0613E844CCD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圆角矩形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圆角矩形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0D43-6D70-40EB-8A5E-3AF46C01E946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B19C8-B3A1-464F-92B0-63DE671656E2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圆角矩形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1E55F-C6F2-4EBB-BE74-F795401745AA}" type="slidenum"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92000" y="2060280"/>
            <a:ext cx="5832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八章鞭毛虫       </a:t>
            </a: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Flagellates</a:t>
            </a:r>
            <a:br>
              <a:rPr sz="4000"/>
            </a:b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Trebuchet MS"/>
              </a:rPr>
              <a:t>第一节 杜氏利什曼原虫    </a:t>
            </a:r>
            <a:r>
              <a:rPr b="0" i="1" lang="en-US" sz="4000" spc="-1" strike="noStrike">
                <a:solidFill>
                  <a:srgbClr val="ffffff"/>
                </a:solidFill>
                <a:latin typeface="Trebuchet MS"/>
              </a:rPr>
              <a:t>Leishmani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TextBox 2"/>
          <p:cNvSpPr/>
          <p:nvPr/>
        </p:nvSpPr>
        <p:spPr>
          <a:xfrm>
            <a:off x="3492360" y="4797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Text Box 2"/>
          <p:cNvSpPr/>
          <p:nvPr/>
        </p:nvSpPr>
        <p:spPr>
          <a:xfrm>
            <a:off x="395280" y="1341360"/>
            <a:ext cx="74167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1 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潜伏期长，</a:t>
            </a:r>
            <a:r>
              <a:rPr b="1" lang="en-US" sz="2800" spc="-1" strike="noStrike">
                <a:solidFill>
                  <a:srgbClr val="990000"/>
                </a:solidFill>
                <a:latin typeface="Perpetua"/>
              </a:rPr>
              <a:t>3~5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个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之后出现长期不规则</a:t>
            </a:r>
            <a:r>
              <a:rPr b="1" lang="zh-CN" sz="2800" spc="-1" strike="noStrike">
                <a:solidFill>
                  <a:srgbClr val="c00000"/>
                </a:solidFill>
                <a:latin typeface="Perpetua"/>
              </a:rPr>
              <a:t>发热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，进行性消瘦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324000" y="27082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 </a:t>
            </a:r>
            <a:r>
              <a:rPr b="1" lang="zh-CN" sz="2800" spc="-1" strike="noStrike">
                <a:solidFill>
                  <a:srgbClr val="990000"/>
                </a:solidFill>
                <a:latin typeface="Perpetua"/>
              </a:rPr>
              <a:t>脾大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（肝、骨髓、淋巴结均受累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533520" y="3429000"/>
            <a:ext cx="5715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巨噬细胞和浆细胞大量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血流受阻及纤维组织增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早期：脾充血，质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晚期：脾纤维化，质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5"/>
          <p:cNvSpPr/>
          <p:nvPr/>
        </p:nvSpPr>
        <p:spPr>
          <a:xfrm>
            <a:off x="468360" y="404640"/>
            <a:ext cx="676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临床表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826920" y="836640"/>
            <a:ext cx="632484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990000"/>
              </a:buClr>
              <a:buFont typeface="Perpetua"/>
              <a:buAutoNum type="arabicPlain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Perpetua"/>
              </a:rPr>
              <a:t>贫血（全血性贫血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细胞、红细胞、血小板均减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324000" y="2349360"/>
            <a:ext cx="8820000" cy="351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1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脾功能亢进  隔离和破坏血液细胞成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2) 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免疫溶血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患者红细胞表面有虫体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虫体代谢 产物中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红细胞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同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机体产生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与这些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结合形成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-Ab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复合物，激活补体，破坏红细胞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3) 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骨髓造血功能受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09480" y="4572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4 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血清清蛋白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/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球蛋白（</a:t>
            </a: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A/G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）比例倒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826920" y="1197000"/>
            <a:ext cx="7561080" cy="1053720"/>
            <a:chOff x="826920" y="1197000"/>
            <a:chExt cx="7561080" cy="1053720"/>
          </a:xfrm>
        </p:grpSpPr>
        <p:sp>
          <p:nvSpPr>
            <p:cNvPr id="286" name="Text Box 4"/>
            <p:cNvSpPr/>
            <p:nvPr/>
          </p:nvSpPr>
          <p:spPr>
            <a:xfrm>
              <a:off x="826920" y="15015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清蛋白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"/>
            <p:cNvSpPr/>
            <p:nvPr/>
          </p:nvSpPr>
          <p:spPr>
            <a:xfrm flipV="1">
              <a:off x="2808000" y="150120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"/>
            <p:cNvSpPr/>
            <p:nvPr/>
          </p:nvSpPr>
          <p:spPr>
            <a:xfrm>
              <a:off x="2808000" y="1730160"/>
              <a:ext cx="380880" cy="22860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 Box 7"/>
            <p:cNvSpPr/>
            <p:nvPr/>
          </p:nvSpPr>
          <p:spPr>
            <a:xfrm>
              <a:off x="3341520" y="1197000"/>
              <a:ext cx="425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肝功能受损，合成减少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341520" y="1730160"/>
              <a:ext cx="504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肾功能受损，从尿排出增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1" name="Group 9"/>
          <p:cNvGrpSpPr/>
          <p:nvPr/>
        </p:nvGrpSpPr>
        <p:grpSpPr>
          <a:xfrm>
            <a:off x="533520" y="2362320"/>
            <a:ext cx="8610480" cy="520560"/>
            <a:chOff x="533520" y="2362320"/>
            <a:chExt cx="8610480" cy="520560"/>
          </a:xfrm>
        </p:grpSpPr>
        <p:sp>
          <p:nvSpPr>
            <p:cNvPr id="292" name="Text Box 10"/>
            <p:cNvSpPr/>
            <p:nvPr/>
          </p:nvSpPr>
          <p:spPr>
            <a:xfrm>
              <a:off x="533520" y="2362320"/>
              <a:ext cx="19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球蛋白增加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1"/>
            <p:cNvSpPr/>
            <p:nvPr/>
          </p:nvSpPr>
          <p:spPr>
            <a:xfrm>
              <a:off x="2590920" y="2362320"/>
              <a:ext cx="655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浆细胞增生，产生大量非特异性球蛋白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12"/>
          <p:cNvSpPr/>
          <p:nvPr/>
        </p:nvSpPr>
        <p:spPr>
          <a:xfrm>
            <a:off x="755640" y="335772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5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  <a:ea typeface="华文中宋"/>
              </a:rPr>
              <a:t>免疫复合物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肾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3"/>
          <p:cNvGrpSpPr/>
          <p:nvPr/>
        </p:nvGrpSpPr>
        <p:grpSpPr>
          <a:xfrm>
            <a:off x="684360" y="4005360"/>
            <a:ext cx="7924680" cy="1599840"/>
            <a:chOff x="684360" y="4005360"/>
            <a:chExt cx="7924680" cy="1599840"/>
          </a:xfrm>
        </p:grpSpPr>
        <p:sp>
          <p:nvSpPr>
            <p:cNvPr id="296" name="Text Box 14"/>
            <p:cNvSpPr/>
            <p:nvPr/>
          </p:nvSpPr>
          <p:spPr>
            <a:xfrm>
              <a:off x="684360" y="4157640"/>
              <a:ext cx="167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Perpetua"/>
                </a:rPr>
                <a:t>Ag + A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 Box 15"/>
            <p:cNvSpPr/>
            <p:nvPr/>
          </p:nvSpPr>
          <p:spPr>
            <a:xfrm>
              <a:off x="3046320" y="4005360"/>
              <a:ext cx="2743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免疫复合物沉积肾小球基底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>
              <a:off x="5869080" y="451008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6475320" y="423360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通透性增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8"/>
            <p:cNvSpPr/>
            <p:nvPr/>
          </p:nvSpPr>
          <p:spPr>
            <a:xfrm>
              <a:off x="2197080" y="5373720"/>
              <a:ext cx="106668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 Box 19"/>
            <p:cNvSpPr/>
            <p:nvPr/>
          </p:nvSpPr>
          <p:spPr>
            <a:xfrm>
              <a:off x="3132000" y="5084640"/>
              <a:ext cx="487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Perpetua"/>
                </a:rPr>
                <a:t>蛋白尿、血尿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（</a:t>
              </a:r>
              <a:r>
                <a:rPr b="1" lang="en-US" sz="1800" spc="-1" strike="noStrike">
                  <a:solidFill>
                    <a:srgbClr val="000000"/>
                  </a:solidFill>
                  <a:latin typeface="Perpetua"/>
                </a:rPr>
                <a:t>Ⅲ</a:t>
              </a:r>
              <a:r>
                <a:rPr b="1" lang="zh-CN" sz="1800" spc="-1" strike="noStrike">
                  <a:solidFill>
                    <a:srgbClr val="000000"/>
                  </a:solidFill>
                  <a:latin typeface="Perpetua"/>
                </a:rPr>
                <a:t>型超敏反应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13080" y="4437000"/>
              <a:ext cx="685800" cy="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380880" y="533520"/>
            <a:ext cx="8001000" cy="28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c00000"/>
              </a:buClr>
              <a:buFont typeface="Perpetua"/>
              <a:buAutoNum type="arabicPlain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Perpetua"/>
              </a:rPr>
              <a:t>我国的特殊临床表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皮肤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面部和颈部皮肤结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治疗过程或治愈后发生（平原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淋巴结型黑热病</a:t>
            </a: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浅表淋巴结肿大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无黑热病病史（荒漠地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3"/>
          <p:cNvSpPr/>
          <p:nvPr/>
        </p:nvSpPr>
        <p:spPr>
          <a:xfrm>
            <a:off x="468360" y="386064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7 </a:t>
            </a:r>
            <a:r>
              <a:rPr b="1" lang="zh-CN" sz="3200" spc="-1" strike="noStrike">
                <a:solidFill>
                  <a:srgbClr val="c00000"/>
                </a:solidFill>
                <a:latin typeface="华文中宋"/>
                <a:ea typeface="华文中宋"/>
              </a:rPr>
              <a:t>预后 </a:t>
            </a:r>
            <a:r>
              <a:rPr b="1" lang="zh-CN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取决于早期特效治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684360" y="4508640"/>
            <a:ext cx="7848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未经治疗死亡率高达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7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~90%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特效药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葡萄糖酸锑钠、两性霉素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脂类复合物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率较高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治愈后可获得牢固的免疫力（消除性免疫）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5" descr="皮肤利什曼"/>
          <p:cNvPicPr/>
          <p:nvPr/>
        </p:nvPicPr>
        <p:blipFill>
          <a:blip r:embed="rId6"/>
          <a:stretch/>
        </p:blipFill>
        <p:spPr>
          <a:xfrm>
            <a:off x="6516720" y="333360"/>
            <a:ext cx="22986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2"/>
          <p:cNvSpPr/>
          <p:nvPr/>
        </p:nvSpPr>
        <p:spPr>
          <a:xfrm>
            <a:off x="914400" y="4572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Perpetu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6985080" cy="11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宋体"/>
                <a:ea typeface="宋体"/>
              </a:rPr>
              <a:t>病原学诊断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55640" y="2707920"/>
            <a:ext cx="813744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穿刺检查  常用</a:t>
            </a:r>
            <a:r>
              <a:rPr b="1" lang="zh-CN" sz="2400" spc="-1" strike="noStrike">
                <a:solidFill>
                  <a:srgbClr val="aa103c"/>
                </a:solidFill>
                <a:latin typeface="宋体"/>
                <a:ea typeface="Times New Roman"/>
              </a:rPr>
              <a:t>骨髓穿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或淋巴结穿刺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皮肤活检  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体外培养法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NNN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培养基）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前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5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(4)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动物接种法                           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Times New Roman"/>
              </a:rPr>
              <a:t>无鞭毛体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395280" y="620640"/>
            <a:ext cx="822960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四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诊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1258560" y="764640"/>
            <a:ext cx="742788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Georgia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Georgia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检测血清抗体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ILS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H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检测循环抗原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利什曼素实验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DNA</a:t>
            </a: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诊断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539640" y="105264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五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流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6858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914400" y="34290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6"/>
          <p:cNvSpPr/>
          <p:nvPr/>
        </p:nvSpPr>
        <p:spPr>
          <a:xfrm>
            <a:off x="914400" y="48006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8"/>
          <p:cNvSpPr/>
          <p:nvPr/>
        </p:nvSpPr>
        <p:spPr>
          <a:xfrm>
            <a:off x="468360" y="2349360"/>
            <a:ext cx="8064360" cy="42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70c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人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平原地区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人为传染源患者以青少年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家栖型中华白蛉和长管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犬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丘陵山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犬为传染源      患者以婴幼儿为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传播媒介是野栖型中华白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Perpetua"/>
              </a:rPr>
              <a:t>自然疫源型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荒漠地区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野生保虫宿主为传染源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吴氏白蛉和亚历山大白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幼儿为主，成人为淋巴结型黑热病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11280" y="83664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六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防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838080" y="190512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4360" y="1989000"/>
            <a:ext cx="8061120" cy="15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1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治疗患者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葡萄糖酸锑钠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脂类复合物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戊脘脒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二脒替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脾切除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捕杀病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684360" y="3860640"/>
            <a:ext cx="37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3. </a:t>
            </a:r>
            <a:r>
              <a:rPr b="1" lang="zh-CN" sz="2800" spc="-1" strike="noStrike">
                <a:solidFill>
                  <a:srgbClr val="0070c0"/>
                </a:solidFill>
                <a:latin typeface="Perpetua"/>
              </a:rPr>
              <a:t>灭蛉、防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3786120"/>
            <a:ext cx="66438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蓝氏贾第鞭毛虫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116000" y="333360"/>
            <a:ext cx="68580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eorgia"/>
              </a:rPr>
              <a:t>第二节   蓝氏贾第鞭毛虫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Giardia lamblia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1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1116000" y="4508640"/>
            <a:ext cx="70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俗称贾第虫，寄生于人体小肠上段、胆囊等处，引起腹痛、腹泻和吸收不良等症状，导致贾第虫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一、</a:t>
            </a:r>
            <a:r>
              <a:rPr b="1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形态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10920" y="1413000"/>
            <a:ext cx="38163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梨形，两侧对称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背面隆起，腹面凹陷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腹面前半部有吸器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吸器区两侧各有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个细胞核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鞭毛均发自两核之间的基体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对中体位于吸器之后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326" name="组合 9"/>
          <p:cNvGrpSpPr/>
          <p:nvPr/>
        </p:nvGrpSpPr>
        <p:grpSpPr>
          <a:xfrm>
            <a:off x="4572000" y="2133720"/>
            <a:ext cx="4321080" cy="3220920"/>
            <a:chOff x="4572000" y="2133720"/>
            <a:chExt cx="4321080" cy="3220920"/>
          </a:xfrm>
        </p:grpSpPr>
        <p:pic>
          <p:nvPicPr>
            <p:cNvPr id="327" name="Picture 6" descr=""/>
            <p:cNvPicPr/>
            <p:nvPr/>
          </p:nvPicPr>
          <p:blipFill>
            <a:blip r:embed="rId1"/>
            <a:stretch/>
          </p:blipFill>
          <p:spPr>
            <a:xfrm>
              <a:off x="4677840" y="2133720"/>
              <a:ext cx="4215240" cy="32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TextBox 6"/>
            <p:cNvSpPr/>
            <p:nvPr/>
          </p:nvSpPr>
          <p:spPr>
            <a:xfrm>
              <a:off x="6662520" y="3086280"/>
              <a:ext cx="5680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前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Box 7"/>
            <p:cNvSpPr/>
            <p:nvPr/>
          </p:nvSpPr>
          <p:spPr>
            <a:xfrm>
              <a:off x="6396120" y="4289400"/>
              <a:ext cx="5698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404040"/>
                  </a:solidFill>
                  <a:latin typeface="Arial"/>
                </a:rPr>
                <a:t>后</a:t>
              </a: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8"/>
            <p:cNvSpPr/>
            <p:nvPr/>
          </p:nvSpPr>
          <p:spPr>
            <a:xfrm>
              <a:off x="4572000" y="3995640"/>
              <a:ext cx="5666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500" spc="-1" strike="noStrike">
                  <a:solidFill>
                    <a:srgbClr val="595959"/>
                  </a:solidFill>
                  <a:latin typeface="Arial"/>
                </a:rPr>
                <a:t>腹鞭毛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1042920" y="2276640"/>
            <a:ext cx="720108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内脏利什曼病 ：杜氏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皮肤利什曼病 ：热带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墨西哥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硕大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黏膜皮肤利什曼病 ： 巴西利什曼原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640" y="1125360"/>
            <a:ext cx="496872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利什曼病 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leishmanias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4" descr="蓝氏-滋养体-1"/>
          <p:cNvPicPr/>
          <p:nvPr/>
        </p:nvPicPr>
        <p:blipFill>
          <a:blip r:embed="rId1"/>
          <a:stretch/>
        </p:blipFill>
        <p:spPr>
          <a:xfrm>
            <a:off x="2050920" y="1268280"/>
            <a:ext cx="547380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5" descr="蓝贾包中"/>
          <p:cNvPicPr/>
          <p:nvPr/>
        </p:nvPicPr>
        <p:blipFill>
          <a:blip r:embed="rId1"/>
          <a:stretch/>
        </p:blipFill>
        <p:spPr>
          <a:xfrm>
            <a:off x="179280" y="2190600"/>
            <a:ext cx="4095720" cy="4667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755280" y="764640"/>
            <a:ext cx="8064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卵圆形，囊壁较厚，半透明；在囊壁与细胞质之间可见空隙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吉姆萨染色标本中显示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2~4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个细胞核、中体及鞭毛轴丝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334" name="Picture 6" descr=""/>
          <p:cNvPicPr/>
          <p:nvPr/>
        </p:nvPicPr>
        <p:blipFill>
          <a:blip r:embed="rId2"/>
          <a:stretch/>
        </p:blipFill>
        <p:spPr>
          <a:xfrm>
            <a:off x="4500720" y="3573360"/>
            <a:ext cx="435600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4" descr="Giardia-life"/>
          <p:cNvPicPr/>
          <p:nvPr/>
        </p:nvPicPr>
        <p:blipFill>
          <a:blip r:embed="rId1"/>
          <a:stretch/>
        </p:blipFill>
        <p:spPr>
          <a:xfrm>
            <a:off x="2627280" y="404640"/>
            <a:ext cx="5786640" cy="605484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8229600" cy="70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二、生活史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24456"/>
                </a:solidFill>
                <a:latin typeface="Trebuchet MS"/>
              </a:rPr>
              <a:t>生活史要点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964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部位：滋养体寄生于人体小肠上段、胆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阶段：四核包囊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致病阶段：滋养体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感染途径：经口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保虫宿主：家畜、鼠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三、 致病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0" name="矩形 3"/>
          <p:cNvSpPr/>
          <p:nvPr/>
        </p:nvSpPr>
        <p:spPr>
          <a:xfrm>
            <a:off x="611280" y="1341360"/>
            <a:ext cx="8137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多数为带囊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作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虫株毒力、共生环境、宿主免疫状态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吸器吸附，机械刺激，使肠黏膜细胞损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量虫体吸附，机械阻隔作用，引起肠功能紊乱，影响营养吸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吸收不良综合征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可侵入胆囊、胆管，引起胆管炎、胆囊炎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儿童感染率高于成年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慢性感染可影响儿童生长发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临床表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厌食、呕吐、发热、腹痛、腹泻、水样粪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粪便无脓血，含脂肪颗粒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rebuchet MS"/>
              </a:rPr>
              <a:t>四、诊断</a:t>
            </a:r>
            <a:r>
              <a:rPr b="0" lang="en-US" sz="3600" spc="-1" strike="noStrike">
                <a:solidFill>
                  <a:srgbClr val="c00000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755640" y="2133360"/>
            <a:ext cx="742968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生理盐水直接涂片查滋养体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腹泻患者稀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碘液涂片查包囊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（慢性患者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Georgia"/>
              </a:rPr>
              <a:t>带囊者成形粪便</a:t>
            </a:r>
            <a:r>
              <a:rPr b="1" lang="en-US" sz="20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十二指肠引流或胆汁检查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五、流行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68360" y="1628640"/>
            <a:ext cx="8229600" cy="463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染源：慢性患者、带虫者与保虫宿主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传播途径：饮用污染的水而感染是重要途 径，包囊对外界抵抗力亦较强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易感人群：老年、儿童、体弱者尤为易感，免疫缺损、艾滋病患者常常导致死亡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TextBox 3"/>
          <p:cNvSpPr/>
          <p:nvPr/>
        </p:nvSpPr>
        <p:spPr>
          <a:xfrm>
            <a:off x="1116000" y="5373720"/>
            <a:ext cx="67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2060"/>
                </a:solidFill>
                <a:latin typeface="Arial"/>
              </a:rPr>
              <a:t>近年来多见于旅游者中，故有“旅游者腹泻”之称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Times New Roman"/>
              </a:rPr>
              <a:t>六、防治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642960" y="1916280"/>
            <a:ext cx="80438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治疗患者与带虫者：甲硝唑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切断传播途径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医学节肢动物机械性携带包囊，杀蝇和蜚蠊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注意饮食、饮水卫生和个人卫生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加强粪便管理，防止水源污染</a:t>
            </a:r>
            <a:r>
              <a:rPr b="1" lang="zh-CN" sz="24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170028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e1a3d"/>
                </a:solidFill>
                <a:latin typeface="Trebuchet MS"/>
              </a:rPr>
              <a:t>第三节  阴 道 毛 滴 虫</a:t>
            </a:r>
            <a:br>
              <a:rPr sz="5400"/>
            </a:br>
            <a:r>
              <a:rPr b="1" i="1" lang="en-US" sz="4800" spc="-1" strike="noStrike">
                <a:solidFill>
                  <a:srgbClr val="3e1a3d"/>
                </a:solidFill>
                <a:latin typeface="Trebuchet MS"/>
              </a:rPr>
              <a:t>Trichomonas vaginalis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1182600" y="5235480"/>
            <a:ext cx="6778800" cy="110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179280" y="333360"/>
            <a:ext cx="243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图片 1" descr=""/>
          <p:cNvPicPr/>
          <p:nvPr/>
        </p:nvPicPr>
        <p:blipFill>
          <a:blip r:embed="rId1"/>
          <a:stretch/>
        </p:blipFill>
        <p:spPr>
          <a:xfrm>
            <a:off x="5867280" y="3284640"/>
            <a:ext cx="3043440" cy="3423960"/>
          </a:xfrm>
          <a:prstGeom prst="rect">
            <a:avLst/>
          </a:prstGeom>
          <a:ln w="0">
            <a:noFill/>
          </a:ln>
        </p:spPr>
      </p:pic>
      <p:sp>
        <p:nvSpPr>
          <p:cNvPr id="352" name="Text Box 4"/>
          <p:cNvSpPr/>
          <p:nvPr/>
        </p:nvSpPr>
        <p:spPr>
          <a:xfrm>
            <a:off x="228600" y="36385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24"/>
          <p:cNvGrpSpPr/>
          <p:nvPr/>
        </p:nvGrpSpPr>
        <p:grpSpPr>
          <a:xfrm>
            <a:off x="5535360" y="4354920"/>
            <a:ext cx="1654560" cy="1666080"/>
            <a:chOff x="5535360" y="4354920"/>
            <a:chExt cx="1654560" cy="1666080"/>
          </a:xfrm>
        </p:grpSpPr>
        <p:sp>
          <p:nvSpPr>
            <p:cNvPr id="354" name="Arc 22"/>
            <p:cNvSpPr/>
            <p:nvPr/>
          </p:nvSpPr>
          <p:spPr>
            <a:xfrm rot="3072000">
              <a:off x="5752800" y="4616280"/>
              <a:ext cx="1218960" cy="1143000"/>
            </a:xfrm>
            <a:custGeom>
              <a:avLst/>
              <a:gdLst>
                <a:gd name="textAreaLeft" fmla="*/ 0 w 1218960"/>
                <a:gd name="textAreaRight" fmla="*/ 1219320 w 121896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23"/>
            <p:cNvSpPr/>
            <p:nvPr/>
          </p:nvSpPr>
          <p:spPr>
            <a:xfrm flipH="1" flipV="1">
              <a:off x="5772960" y="5364720"/>
              <a:ext cx="9504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25"/>
          <p:cNvGrpSpPr/>
          <p:nvPr/>
        </p:nvGrpSpPr>
        <p:grpSpPr>
          <a:xfrm>
            <a:off x="1420560" y="4278240"/>
            <a:ext cx="1654560" cy="1666440"/>
            <a:chOff x="1420560" y="4278240"/>
            <a:chExt cx="1654560" cy="1666440"/>
          </a:xfrm>
        </p:grpSpPr>
        <p:sp>
          <p:nvSpPr>
            <p:cNvPr id="357" name="Arc 26"/>
            <p:cNvSpPr/>
            <p:nvPr/>
          </p:nvSpPr>
          <p:spPr>
            <a:xfrm rot="13872000">
              <a:off x="1638000" y="4539600"/>
              <a:ext cx="1219320" cy="114300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fill="none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</a:path>
                <a:path stroke="0" w="43200" h="43200">
                  <a:moveTo>
                    <a:pt x="1323" y="29045"/>
                  </a:moveTo>
                  <a:cubicBezTo>
                    <a:pt x="448" y="26660"/>
                    <a:pt x="0" y="24140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007"/>
                    <a:pt x="-32007" y="-22336"/>
                    <a:pt x="21600" y="-22336"/>
                  </a:cubicBezTo>
                  <a:cubicBezTo>
                    <a:pt x="20887" y="-22336"/>
                    <a:pt x="20175" y="-22372"/>
                    <a:pt x="19465" y="-22442"/>
                  </a:cubicBezTo>
                  <a:lnTo>
                    <a:pt x="21600" y="21600"/>
                  </a:lnTo>
                  <a:lnTo>
                    <a:pt x="1323" y="29045"/>
                  </a:lnTo>
                  <a:close/>
                </a:path>
              </a:pathLst>
            </a:custGeom>
            <a:noFill/>
            <a:ln w="76320">
              <a:solidFill>
                <a:srgbClr val="00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27"/>
            <p:cNvSpPr/>
            <p:nvPr/>
          </p:nvSpPr>
          <p:spPr>
            <a:xfrm>
              <a:off x="2742120" y="4816440"/>
              <a:ext cx="95400" cy="118440"/>
            </a:xfrm>
            <a:prstGeom prst="line">
              <a:avLst/>
            </a:prstGeom>
            <a:ln w="7632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组合 21"/>
          <p:cNvGrpSpPr/>
          <p:nvPr/>
        </p:nvGrpSpPr>
        <p:grpSpPr>
          <a:xfrm>
            <a:off x="2057400" y="4883040"/>
            <a:ext cx="4267080" cy="534600"/>
            <a:chOff x="2057400" y="4883040"/>
            <a:chExt cx="4267080" cy="534600"/>
          </a:xfrm>
        </p:grpSpPr>
        <p:grpSp>
          <p:nvGrpSpPr>
            <p:cNvPr id="360" name="Group 34"/>
            <p:cNvGrpSpPr/>
            <p:nvPr/>
          </p:nvGrpSpPr>
          <p:grpSpPr>
            <a:xfrm>
              <a:off x="3657600" y="5035680"/>
              <a:ext cx="1371600" cy="304920"/>
              <a:chOff x="3657600" y="5035680"/>
              <a:chExt cx="1371600" cy="304920"/>
            </a:xfrm>
          </p:grpSpPr>
          <p:grpSp>
            <p:nvGrpSpPr>
              <p:cNvPr id="361" name="Group 30"/>
              <p:cNvGrpSpPr/>
              <p:nvPr/>
            </p:nvGrpSpPr>
            <p:grpSpPr>
              <a:xfrm>
                <a:off x="3657600" y="5035680"/>
                <a:ext cx="1371600" cy="76320"/>
                <a:chOff x="3657600" y="5035680"/>
                <a:chExt cx="1371600" cy="76320"/>
              </a:xfrm>
            </p:grpSpPr>
            <p:sp>
              <p:nvSpPr>
                <p:cNvPr id="362" name="Line 28"/>
                <p:cNvSpPr/>
                <p:nvPr/>
              </p:nvSpPr>
              <p:spPr>
                <a:xfrm>
                  <a:off x="3657600" y="511200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Line 29"/>
                <p:cNvSpPr/>
                <p:nvPr/>
              </p:nvSpPr>
              <p:spPr>
                <a:xfrm flipH="1" flipV="1">
                  <a:off x="4876560" y="50356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Group 31"/>
              <p:cNvGrpSpPr/>
              <p:nvPr/>
            </p:nvGrpSpPr>
            <p:grpSpPr>
              <a:xfrm>
                <a:off x="3657600" y="5264280"/>
                <a:ext cx="1371600" cy="76320"/>
                <a:chOff x="3657600" y="5264280"/>
                <a:chExt cx="1371600" cy="76320"/>
              </a:xfrm>
            </p:grpSpPr>
            <p:sp>
              <p:nvSpPr>
                <p:cNvPr id="365" name="Line 32"/>
                <p:cNvSpPr/>
                <p:nvPr/>
              </p:nvSpPr>
              <p:spPr>
                <a:xfrm flipH="1">
                  <a:off x="3657600" y="526428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Line 33"/>
                <p:cNvSpPr/>
                <p:nvPr/>
              </p:nvSpPr>
              <p:spPr>
                <a:xfrm>
                  <a:off x="3657960" y="5264280"/>
                  <a:ext cx="152280" cy="76320"/>
                </a:xfrm>
                <a:prstGeom prst="line">
                  <a:avLst/>
                </a:prstGeom>
                <a:ln w="76320">
                  <a:solidFill>
                    <a:srgbClr val="ff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" name="组合 3"/>
            <p:cNvGrpSpPr/>
            <p:nvPr/>
          </p:nvGrpSpPr>
          <p:grpSpPr>
            <a:xfrm>
              <a:off x="2057400" y="4883040"/>
              <a:ext cx="4267080" cy="534600"/>
              <a:chOff x="2057400" y="4883040"/>
              <a:chExt cx="4267080" cy="534600"/>
            </a:xfrm>
          </p:grpSpPr>
          <p:sp>
            <p:nvSpPr>
              <p:cNvPr id="368" name="Text Box 37"/>
              <p:cNvSpPr/>
              <p:nvPr/>
            </p:nvSpPr>
            <p:spPr>
              <a:xfrm>
                <a:off x="2057400" y="4897080"/>
                <a:ext cx="16761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38"/>
              <p:cNvSpPr/>
              <p:nvPr/>
            </p:nvSpPr>
            <p:spPr>
              <a:xfrm>
                <a:off x="5029200" y="4883040"/>
                <a:ext cx="12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00"/>
                    </a:solidFill>
                    <a:latin typeface="Times New Roman"/>
                  </a:rPr>
                  <a:t>滋养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TextBox 1"/>
              <p:cNvSpPr/>
              <p:nvPr/>
            </p:nvSpPr>
            <p:spPr>
              <a:xfrm>
                <a:off x="3809880" y="4893480"/>
                <a:ext cx="106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660066"/>
                    </a:solidFill>
                    <a:latin typeface="Times New Roman"/>
                  </a:rPr>
                  <a:t>接触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71" name="TextBox 2"/>
          <p:cNvSpPr/>
          <p:nvPr/>
        </p:nvSpPr>
        <p:spPr>
          <a:xfrm>
            <a:off x="1258920" y="471024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3"/>
          <p:cNvSpPr/>
          <p:nvPr/>
        </p:nvSpPr>
        <p:spPr>
          <a:xfrm>
            <a:off x="6224760" y="4697280"/>
            <a:ext cx="134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Times New Roman"/>
              </a:rPr>
              <a:t>以分裂法生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3"/>
          <p:cNvSpPr/>
          <p:nvPr/>
        </p:nvSpPr>
        <p:spPr>
          <a:xfrm>
            <a:off x="250920" y="981000"/>
            <a:ext cx="87357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滋养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虫体梨形或椭圆形，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前鞭毛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后鞭毛，后鞭毛向后沿波动膜外缘内侧呈波浪式延伸，末端不游离。细胞核泡状，在虫体前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处。鞭毛由基体发出，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排成环状，位于细胞核上方。轴柱贯穿虫体并从末端伸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2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71640" y="2205000"/>
            <a:ext cx="768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8186a"/>
                </a:solidFill>
                <a:latin typeface="Trebuchet MS"/>
              </a:rPr>
              <a:t>Leishmania donovani</a:t>
            </a:r>
            <a:endParaRPr b="0" lang="en-US" sz="5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58920" y="3933720"/>
            <a:ext cx="634824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杜氏利什曼原虫引起内脏利什曼病，也称黑热病</a:t>
            </a:r>
            <a:r>
              <a:rPr b="1" lang="zh-CN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cc3300"/>
                </a:solidFill>
                <a:latin typeface="华文中宋"/>
                <a:ea typeface="华文中宋"/>
              </a:rPr>
              <a:t>Kala-azar) </a:t>
            </a: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5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971640" y="836640"/>
            <a:ext cx="7561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19280" y="112536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Perpetua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Perpetua"/>
              </a:rPr>
              <a:t>杜氏利什曼原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Text Box 6"/>
          <p:cNvSpPr/>
          <p:nvPr/>
        </p:nvSpPr>
        <p:spPr>
          <a:xfrm>
            <a:off x="380880" y="15098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寄生在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女性及男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泌尿生殖系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7"/>
          <p:cNvSpPr/>
          <p:nvPr/>
        </p:nvSpPr>
        <p:spPr>
          <a:xfrm>
            <a:off x="380880" y="220500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过接触传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8"/>
          <p:cNvSpPr/>
          <p:nvPr/>
        </p:nvSpPr>
        <p:spPr>
          <a:xfrm>
            <a:off x="228600" y="2997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9"/>
          <p:cNvSpPr/>
          <p:nvPr/>
        </p:nvSpPr>
        <p:spPr>
          <a:xfrm>
            <a:off x="380880" y="381636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的自净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组合 15"/>
          <p:cNvGrpSpPr/>
          <p:nvPr/>
        </p:nvGrpSpPr>
        <p:grpSpPr>
          <a:xfrm>
            <a:off x="324000" y="4494240"/>
            <a:ext cx="7220160" cy="586080"/>
            <a:chOff x="324000" y="4494240"/>
            <a:chExt cx="7220160" cy="586080"/>
          </a:xfrm>
        </p:grpSpPr>
        <p:sp>
          <p:nvSpPr>
            <p:cNvPr id="379" name="TextBox 12"/>
            <p:cNvSpPr/>
            <p:nvPr/>
          </p:nvSpPr>
          <p:spPr>
            <a:xfrm>
              <a:off x="324000" y="4498920"/>
              <a:ext cx="1923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杆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13"/>
            <p:cNvSpPr/>
            <p:nvPr/>
          </p:nvSpPr>
          <p:spPr>
            <a:xfrm>
              <a:off x="2863800" y="4494240"/>
              <a:ext cx="3940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酵解糖原，产生乳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81" name="直接箭头连接符 15"/>
            <p:cNvCxnSpPr/>
            <p:nvPr/>
          </p:nvCxnSpPr>
          <p:spPr>
            <a:xfrm>
              <a:off x="2151000" y="47858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82" name="直接箭头连接符 18"/>
            <p:cNvCxnSpPr/>
            <p:nvPr/>
          </p:nvCxnSpPr>
          <p:spPr>
            <a:xfrm>
              <a:off x="6804360" y="47811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83" name="组合 16"/>
          <p:cNvGrpSpPr/>
          <p:nvPr/>
        </p:nvGrpSpPr>
        <p:grpSpPr>
          <a:xfrm>
            <a:off x="393840" y="5130720"/>
            <a:ext cx="5513400" cy="581400"/>
            <a:chOff x="393840" y="5130720"/>
            <a:chExt cx="5513400" cy="581400"/>
          </a:xfrm>
        </p:grpSpPr>
        <p:cxnSp>
          <p:nvCxnSpPr>
            <p:cNvPr id="384" name="直接箭头连接符 17"/>
            <p:cNvCxnSpPr/>
            <p:nvPr/>
          </p:nvCxnSpPr>
          <p:spPr>
            <a:xfrm>
              <a:off x="2464920" y="5415840"/>
              <a:ext cx="74052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85" name="TextBox 13"/>
            <p:cNvSpPr/>
            <p:nvPr/>
          </p:nvSpPr>
          <p:spPr>
            <a:xfrm>
              <a:off x="393840" y="5130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 3.8~4.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14"/>
            <p:cNvSpPr/>
            <p:nvPr/>
          </p:nvSpPr>
          <p:spPr>
            <a:xfrm>
              <a:off x="3192840" y="51307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抑制细菌繁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 Box 5"/>
          <p:cNvSpPr/>
          <p:nvPr/>
        </p:nvSpPr>
        <p:spPr>
          <a:xfrm>
            <a:off x="385920" y="776160"/>
            <a:ext cx="876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有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滋养体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期，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既是感染阶段又是致病阶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10"/>
          <p:cNvSpPr/>
          <p:nvPr/>
        </p:nvSpPr>
        <p:spPr>
          <a:xfrm>
            <a:off x="380880" y="4365720"/>
            <a:ext cx="72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阴道炎、尿道炎、前列腺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0"/>
          <p:cNvSpPr/>
          <p:nvPr/>
        </p:nvSpPr>
        <p:spPr>
          <a:xfrm>
            <a:off x="382680" y="5079960"/>
            <a:ext cx="786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可吞噬精子、感染分泌物增多影响精子活力：导致男性不育症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组合 15"/>
          <p:cNvGrpSpPr/>
          <p:nvPr/>
        </p:nvGrpSpPr>
        <p:grpSpPr>
          <a:xfrm>
            <a:off x="324000" y="1125360"/>
            <a:ext cx="8463240" cy="586080"/>
            <a:chOff x="324000" y="1125360"/>
            <a:chExt cx="8463240" cy="586080"/>
          </a:xfrm>
        </p:grpSpPr>
        <p:sp>
          <p:nvSpPr>
            <p:cNvPr id="391" name="TextBox 12"/>
            <p:cNvSpPr/>
            <p:nvPr/>
          </p:nvSpPr>
          <p:spPr>
            <a:xfrm>
              <a:off x="324000" y="1130040"/>
              <a:ext cx="517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阴道毛滴虫竞争性消耗糖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Box 13"/>
            <p:cNvSpPr/>
            <p:nvPr/>
          </p:nvSpPr>
          <p:spPr>
            <a:xfrm>
              <a:off x="6183360" y="1125360"/>
              <a:ext cx="186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糖原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3" name="直接箭头连接符 15"/>
            <p:cNvCxnSpPr/>
            <p:nvPr/>
          </p:nvCxnSpPr>
          <p:spPr>
            <a:xfrm>
              <a:off x="8047440" y="14097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94" name="直接箭头连接符 18"/>
            <p:cNvCxnSpPr/>
            <p:nvPr/>
          </p:nvCxnSpPr>
          <p:spPr>
            <a:xfrm>
              <a:off x="5441040" y="141120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395" name="组合 16"/>
          <p:cNvGrpSpPr/>
          <p:nvPr/>
        </p:nvGrpSpPr>
        <p:grpSpPr>
          <a:xfrm>
            <a:off x="345960" y="1795320"/>
            <a:ext cx="8440920" cy="581400"/>
            <a:chOff x="345960" y="1795320"/>
            <a:chExt cx="8440920" cy="581400"/>
          </a:xfrm>
        </p:grpSpPr>
        <p:sp>
          <p:nvSpPr>
            <p:cNvPr id="396" name="TextBox 13"/>
            <p:cNvSpPr/>
            <p:nvPr/>
          </p:nvSpPr>
          <p:spPr>
            <a:xfrm>
              <a:off x="345960" y="1795320"/>
              <a:ext cx="2714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乳酸生成减少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97" name="直接箭头连接符 18"/>
            <p:cNvCxnSpPr/>
            <p:nvPr/>
          </p:nvCxnSpPr>
          <p:spPr>
            <a:xfrm>
              <a:off x="3024000" y="208008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98" name="TextBox 13"/>
            <p:cNvSpPr/>
            <p:nvPr/>
          </p:nvSpPr>
          <p:spPr>
            <a:xfrm>
              <a:off x="3786120" y="1795320"/>
              <a:ext cx="500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pH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上升（中性或偏碱性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组合 17"/>
          <p:cNvGrpSpPr/>
          <p:nvPr/>
        </p:nvGrpSpPr>
        <p:grpSpPr>
          <a:xfrm>
            <a:off x="500040" y="2433600"/>
            <a:ext cx="7743960" cy="581400"/>
            <a:chOff x="500040" y="2433600"/>
            <a:chExt cx="7743960" cy="581400"/>
          </a:xfrm>
        </p:grpSpPr>
        <p:cxnSp>
          <p:nvCxnSpPr>
            <p:cNvPr id="400" name="直接箭头连接符 18"/>
            <p:cNvCxnSpPr/>
            <p:nvPr/>
          </p:nvCxnSpPr>
          <p:spPr>
            <a:xfrm>
              <a:off x="500040" y="271944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1" name="TextBox 13"/>
            <p:cNvSpPr/>
            <p:nvPr/>
          </p:nvSpPr>
          <p:spPr>
            <a:xfrm>
              <a:off x="1225800" y="2433600"/>
              <a:ext cx="701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有利于滴虫大量繁殖且导致继发性细菌感染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2" name="Text Box 10"/>
          <p:cNvSpPr/>
          <p:nvPr/>
        </p:nvSpPr>
        <p:spPr>
          <a:xfrm>
            <a:off x="382680" y="404640"/>
            <a:ext cx="72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滴虫寄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组合 5"/>
          <p:cNvGrpSpPr/>
          <p:nvPr/>
        </p:nvGrpSpPr>
        <p:grpSpPr>
          <a:xfrm>
            <a:off x="498600" y="3530520"/>
            <a:ext cx="7751520" cy="581400"/>
            <a:chOff x="498600" y="3530520"/>
            <a:chExt cx="7751520" cy="581400"/>
          </a:xfrm>
        </p:grpSpPr>
        <p:cxnSp>
          <p:nvCxnSpPr>
            <p:cNvPr id="404" name="直接箭头连接符 18"/>
            <p:cNvCxnSpPr/>
            <p:nvPr/>
          </p:nvCxnSpPr>
          <p:spPr>
            <a:xfrm>
              <a:off x="498600" y="3846960"/>
              <a:ext cx="7401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05" name="TextBox 13"/>
            <p:cNvSpPr/>
            <p:nvPr/>
          </p:nvSpPr>
          <p:spPr>
            <a:xfrm>
              <a:off x="1232280" y="3530520"/>
              <a:ext cx="7017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c00000"/>
                  </a:solidFill>
                  <a:latin typeface="Times New Roman"/>
                </a:rPr>
                <a:t>炎症病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1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250920" y="333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395280" y="1052640"/>
            <a:ext cx="55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理盐水直接涂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395280" y="170028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吉姆萨或瑞氏染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380880" y="227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汤培养基培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6"/>
          <p:cNvSpPr/>
          <p:nvPr/>
        </p:nvSpPr>
        <p:spPr>
          <a:xfrm>
            <a:off x="250920" y="29653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10" descr="滴虫涂片.jpg"/>
          <p:cNvPicPr/>
          <p:nvPr/>
        </p:nvPicPr>
        <p:blipFill>
          <a:blip r:embed="rId1"/>
          <a:srcRect l="4571" t="6064" r="4058" b="3032"/>
          <a:stretch/>
        </p:blipFill>
        <p:spPr>
          <a:xfrm>
            <a:off x="5143680" y="785880"/>
            <a:ext cx="2857320" cy="2143080"/>
          </a:xfrm>
          <a:prstGeom prst="rect">
            <a:avLst/>
          </a:prstGeom>
          <a:ln w="0">
            <a:noFill/>
          </a:ln>
        </p:spPr>
      </p:pic>
      <p:sp>
        <p:nvSpPr>
          <p:cNvPr id="412" name="Text Box 5"/>
          <p:cNvSpPr/>
          <p:nvPr/>
        </p:nvSpPr>
        <p:spPr>
          <a:xfrm>
            <a:off x="468360" y="3686040"/>
            <a:ext cx="8136000" cy="22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世界范围内最常见的性传播感染疾病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V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感染者感染阴道毛滴虫的机会是一般人群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5~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国的感染率也很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9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7"/>
          <p:cNvSpPr/>
          <p:nvPr/>
        </p:nvSpPr>
        <p:spPr>
          <a:xfrm>
            <a:off x="324000" y="549360"/>
            <a:ext cx="624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治疗患者及带虫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甲硝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8"/>
          <p:cNvSpPr/>
          <p:nvPr/>
        </p:nvSpPr>
        <p:spPr>
          <a:xfrm>
            <a:off x="326880" y="1189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438086"/>
                </a:solidFill>
                <a:latin typeface="Times New Roman"/>
              </a:rPr>
              <a:t>切断传播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542880" y="1819440"/>
            <a:ext cx="78501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直接接触：以性传播为主的一种传染病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0"/>
          <p:cNvSpPr/>
          <p:nvPr/>
        </p:nvSpPr>
        <p:spPr>
          <a:xfrm>
            <a:off x="542880" y="2540160"/>
            <a:ext cx="569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间接接触：注意个人卫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1527120"/>
            <a:ext cx="7772400" cy="1687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第五节  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致病性自生生活阿米巴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82600" y="4370040"/>
            <a:ext cx="6778800" cy="10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Georgia"/>
              </a:rPr>
              <a:t>贾默稚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6873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rebuchet MS"/>
              </a:rPr>
              <a:t>福氏耐格里阿米巴</a:t>
            </a:r>
            <a:br>
              <a:rPr sz="4400"/>
            </a:br>
            <a:r>
              <a:rPr b="1" i="1" lang="en-US" sz="4400" spc="-1" strike="noStrike">
                <a:solidFill>
                  <a:srgbClr val="ffffff"/>
                </a:solidFill>
                <a:latin typeface="Trebuchet MS"/>
              </a:rPr>
              <a:t>Naegleria fowler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1481040"/>
            <a:ext cx="3409920" cy="62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rebuchet MS"/>
              </a:rPr>
              <a:t>滋养体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21" name="Rectangle 5"/>
          <p:cNvSpPr/>
          <p:nvPr/>
        </p:nvSpPr>
        <p:spPr>
          <a:xfrm>
            <a:off x="320760" y="3214800"/>
            <a:ext cx="775152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包囊；囊壁双层，厚而光滑；囊内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细胞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39"/>
          <p:cNvSpPr/>
          <p:nvPr/>
        </p:nvSpPr>
        <p:spPr>
          <a:xfrm>
            <a:off x="223920" y="318960"/>
            <a:ext cx="4419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24456"/>
                </a:solidFill>
                <a:latin typeface="Times New Roman"/>
              </a:rPr>
              <a:t>一、形态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左大括号 26"/>
          <p:cNvSpPr/>
          <p:nvPr/>
        </p:nvSpPr>
        <p:spPr>
          <a:xfrm>
            <a:off x="2143080" y="1284120"/>
            <a:ext cx="285840" cy="10717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1071720"/>
              <a:gd name="textAreaBottom" fmla="*/ 1064520 h 107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27"/>
          <p:cNvSpPr/>
          <p:nvPr/>
        </p:nvSpPr>
        <p:spPr>
          <a:xfrm>
            <a:off x="2500200" y="476280"/>
            <a:ext cx="646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阿米巴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伪足宽大叶状；细胞核泡状，核仁大而致密位于中央；细胞质呈颗粒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3" descr="耐格里阿米巴滋养体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5143680" y="1628640"/>
            <a:ext cx="3730320" cy="2793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福氏鞭毛型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143680" y="2924280"/>
            <a:ext cx="3676320" cy="26654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" descr="耐格里阿米巴包囊"/>
          <p:cNvPicPr/>
          <p:nvPr/>
        </p:nvPicPr>
        <p:blipFill>
          <a:blip r:embed="rId3"/>
          <a:stretch/>
        </p:blipFill>
        <p:spPr>
          <a:xfrm>
            <a:off x="2019240" y="4000680"/>
            <a:ext cx="3338640" cy="2643120"/>
          </a:xfrm>
          <a:prstGeom prst="rect">
            <a:avLst/>
          </a:prstGeom>
          <a:ln w="0">
            <a:noFill/>
          </a:ln>
        </p:spPr>
      </p:pic>
      <p:sp>
        <p:nvSpPr>
          <p:cNvPr id="428" name="TextBox 28"/>
          <p:cNvSpPr/>
          <p:nvPr/>
        </p:nvSpPr>
        <p:spPr>
          <a:xfrm>
            <a:off x="2489040" y="2058840"/>
            <a:ext cx="629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鞭毛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梨形或卵形，前段长出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根或多根鞭毛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7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9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10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40"/>
          <p:cNvSpPr/>
          <p:nvPr/>
        </p:nvSpPr>
        <p:spPr>
          <a:xfrm>
            <a:off x="214200" y="142920"/>
            <a:ext cx="85726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二、生活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生活史较简单，有滋养体和包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阶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组合 45"/>
          <p:cNvGrpSpPr/>
          <p:nvPr/>
        </p:nvGrpSpPr>
        <p:grpSpPr>
          <a:xfrm>
            <a:off x="1619280" y="1892160"/>
            <a:ext cx="5948280" cy="4586400"/>
            <a:chOff x="1619280" y="1892160"/>
            <a:chExt cx="5948280" cy="4586400"/>
          </a:xfrm>
        </p:grpSpPr>
        <p:pic>
          <p:nvPicPr>
            <p:cNvPr id="431" name="Picture 3" descr=""/>
            <p:cNvPicPr/>
            <p:nvPr/>
          </p:nvPicPr>
          <p:blipFill>
            <a:blip r:embed="rId1"/>
            <a:stretch/>
          </p:blipFill>
          <p:spPr>
            <a:xfrm>
              <a:off x="1619280" y="1892160"/>
              <a:ext cx="5948280" cy="45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TextBox 32"/>
            <p:cNvSpPr/>
            <p:nvPr/>
          </p:nvSpPr>
          <p:spPr>
            <a:xfrm>
              <a:off x="5977080" y="2653920"/>
              <a:ext cx="12142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在水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TextBox 33"/>
            <p:cNvSpPr/>
            <p:nvPr/>
          </p:nvSpPr>
          <p:spPr>
            <a:xfrm>
              <a:off x="5691240" y="6046920"/>
              <a:ext cx="16430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鞭毛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Box 34"/>
            <p:cNvSpPr/>
            <p:nvPr/>
          </p:nvSpPr>
          <p:spPr>
            <a:xfrm>
              <a:off x="1976400" y="246348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阿米巴型滋养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5"/>
            <p:cNvSpPr/>
            <p:nvPr/>
          </p:nvSpPr>
          <p:spPr>
            <a:xfrm>
              <a:off x="1785960" y="6070680"/>
              <a:ext cx="8571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包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36"/>
            <p:cNvSpPr/>
            <p:nvPr/>
          </p:nvSpPr>
          <p:spPr>
            <a:xfrm>
              <a:off x="1654200" y="3892320"/>
              <a:ext cx="107136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外环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TextBox 37"/>
            <p:cNvSpPr/>
            <p:nvPr/>
          </p:nvSpPr>
          <p:spPr>
            <a:xfrm>
              <a:off x="3976560" y="424980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38" name="直接箭头连接符 39"/>
            <p:cNvCxnSpPr/>
            <p:nvPr/>
          </p:nvCxnSpPr>
          <p:spPr>
            <a:xfrm flipV="1">
              <a:off x="2761920" y="5749200"/>
              <a:ext cx="857880" cy="21492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cxnSp>
          <p:nvCxnSpPr>
            <p:cNvPr id="439" name="直接箭头连接符 41"/>
            <p:cNvCxnSpPr/>
            <p:nvPr/>
          </p:nvCxnSpPr>
          <p:spPr>
            <a:xfrm>
              <a:off x="3904200" y="4178160"/>
              <a:ext cx="214920" cy="714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</p:cxnSp>
        <p:sp>
          <p:nvSpPr>
            <p:cNvPr id="440" name="TextBox 42"/>
            <p:cNvSpPr/>
            <p:nvPr/>
          </p:nvSpPr>
          <p:spPr>
            <a:xfrm>
              <a:off x="2678040" y="589284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</a:rPr>
                <a:t>人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矩形 44"/>
            <p:cNvSpPr/>
            <p:nvPr/>
          </p:nvSpPr>
          <p:spPr>
            <a:xfrm>
              <a:off x="3679920" y="5702400"/>
              <a:ext cx="18572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00000"/>
                  </a:solidFill>
                  <a:latin typeface="Times New Roman"/>
                </a:rPr>
                <a:t>阿米巴型滋养体损伤脑组织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l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40"/>
          <p:cNvSpPr/>
          <p:nvPr/>
        </p:nvSpPr>
        <p:spPr>
          <a:xfrm>
            <a:off x="25092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5"/>
          <p:cNvSpPr/>
          <p:nvPr/>
        </p:nvSpPr>
        <p:spPr>
          <a:xfrm>
            <a:off x="324000" y="836640"/>
            <a:ext cx="8286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脑部病变多位于脑皮质表面和基底部，嗅叶、颞叶和小脑也可受到损害，以嗅叶受累严重，导致原发性阿米巴脑膜脑炎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67afbd"/>
                </a:solidFill>
                <a:latin typeface="Times New Roman"/>
              </a:rPr>
              <a:t>PAM </a:t>
            </a:r>
            <a:r>
              <a:rPr b="1" lang="zh-CN" sz="3200" spc="-1" strike="noStrike">
                <a:solidFill>
                  <a:srgbClr val="67afbd"/>
                </a:solidFill>
                <a:latin typeface="Times New Roman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临床症状：早期突发头痛、发热、恶心、呕吐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~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后迅速转入瘫痪、昏迷、谵妄，患者常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周内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发病者多为儿童和青壮年，起病急、病程短、死亡率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40"/>
          <p:cNvSpPr/>
          <p:nvPr/>
        </p:nvSpPr>
        <p:spPr>
          <a:xfrm>
            <a:off x="179280" y="47628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四、诊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矩形 15"/>
          <p:cNvSpPr/>
          <p:nvPr/>
        </p:nvSpPr>
        <p:spPr>
          <a:xfrm>
            <a:off x="395280" y="981000"/>
            <a:ext cx="82868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病原学检查：脑脊液查滋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脑脊液接种、培养，镜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询问病史：是否曾游泳、嬉水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40"/>
          <p:cNvSpPr/>
          <p:nvPr/>
        </p:nvSpPr>
        <p:spPr>
          <a:xfrm>
            <a:off x="214200" y="3110040"/>
            <a:ext cx="77155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五、流行与防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4"/>
          <p:cNvSpPr/>
          <p:nvPr/>
        </p:nvSpPr>
        <p:spPr>
          <a:xfrm>
            <a:off x="428760" y="3854520"/>
            <a:ext cx="8319960" cy="20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1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夏季以青壮年发病为主，多在游泳、潜水时感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治疗：无理想药物，两性霉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缓解症状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预防为主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避免接触污染水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游泳、洗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3"/>
          <p:cNvSpPr/>
          <p:nvPr/>
        </p:nvSpPr>
        <p:spPr>
          <a:xfrm>
            <a:off x="539640" y="620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Perpetua"/>
              </a:rPr>
              <a:t>一</a:t>
            </a:r>
            <a:r>
              <a:rPr b="1" lang="en-US" sz="4000" spc="-1" strike="noStrike">
                <a:solidFill>
                  <a:srgbClr val="c00000"/>
                </a:solidFill>
                <a:latin typeface="Perpetua"/>
              </a:rPr>
              <a:t> 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c00000"/>
                </a:solidFill>
                <a:latin typeface="Times New Roman"/>
              </a:rPr>
              <a:t>形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684360" y="1700280"/>
            <a:ext cx="436716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Perpet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（利杜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椭圆形或圆形，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2.8~4.4µm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细胞膜纤细，细胞质淡蓝色；细胞核位于虫体一侧；动基体位于虫体中部；核和动基体均呈红色或紫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7" descr=""/>
          <p:cNvPicPr/>
          <p:nvPr/>
        </p:nvPicPr>
        <p:blipFill>
          <a:blip r:embed="rId1"/>
          <a:stretch/>
        </p:blipFill>
        <p:spPr>
          <a:xfrm>
            <a:off x="5364000" y="2133720"/>
            <a:ext cx="2644920" cy="2736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8" descr=""/>
          <p:cNvPicPr/>
          <p:nvPr/>
        </p:nvPicPr>
        <p:blipFill>
          <a:blip r:embed="rId2"/>
          <a:stretch/>
        </p:blipFill>
        <p:spPr>
          <a:xfrm>
            <a:off x="1692360" y="4724280"/>
            <a:ext cx="1447560" cy="1828800"/>
          </a:xfrm>
          <a:prstGeom prst="rect">
            <a:avLst/>
          </a:prstGeom>
          <a:ln w="0">
            <a:noFill/>
          </a:ln>
        </p:spPr>
      </p:pic>
      <p:grpSp>
        <p:nvGrpSpPr>
          <p:cNvPr id="233" name="组合 11"/>
          <p:cNvGrpSpPr/>
          <p:nvPr/>
        </p:nvGrpSpPr>
        <p:grpSpPr>
          <a:xfrm>
            <a:off x="2484360" y="5589720"/>
            <a:ext cx="1227240" cy="368280"/>
            <a:chOff x="2484360" y="5589720"/>
            <a:chExt cx="1227240" cy="368280"/>
          </a:xfrm>
        </p:grpSpPr>
        <p:sp>
          <p:nvSpPr>
            <p:cNvPr id="234" name="直接连接符 7"/>
            <p:cNvSpPr/>
            <p:nvPr/>
          </p:nvSpPr>
          <p:spPr>
            <a:xfrm>
              <a:off x="2484360" y="5705640"/>
              <a:ext cx="71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TextBox 8"/>
            <p:cNvSpPr/>
            <p:nvPr/>
          </p:nvSpPr>
          <p:spPr>
            <a:xfrm>
              <a:off x="3135960" y="5589720"/>
              <a:ext cx="57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直接连接符 16"/>
          <p:cNvSpPr/>
          <p:nvPr/>
        </p:nvSpPr>
        <p:spPr>
          <a:xfrm>
            <a:off x="2411280" y="53737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8"/>
          <p:cNvSpPr/>
          <p:nvPr/>
        </p:nvSpPr>
        <p:spPr>
          <a:xfrm>
            <a:off x="3132000" y="515772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动基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9"/>
          <p:cNvSpPr/>
          <p:nvPr/>
        </p:nvSpPr>
        <p:spPr>
          <a:xfrm>
            <a:off x="5435640" y="494172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巨噬细胞内的无鞭毛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4356000" y="3933720"/>
            <a:ext cx="3324240" cy="2492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3"/>
          <p:cNvSpPr/>
          <p:nvPr/>
        </p:nvSpPr>
        <p:spPr>
          <a:xfrm>
            <a:off x="900000" y="981000"/>
            <a:ext cx="570888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erpetua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梭形或长梭形，前端有</a:t>
            </a: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根伸岀体外的鞭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400" spc="-1" strike="noStrike">
                <a:solidFill>
                  <a:srgbClr val="000000"/>
                </a:solidFill>
                <a:latin typeface="Perpetua"/>
              </a:rPr>
              <a:t>吉姆萨染色：胞质淡蓝色；核位于虫体中部；动基体横向于虫体前部，近基体；细胞核、动基体和鞭毛均呈红色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2"/>
          <a:stretch/>
        </p:blipFill>
        <p:spPr>
          <a:xfrm>
            <a:off x="1187280" y="3716280"/>
            <a:ext cx="1924200" cy="299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/>
          <p:cNvSpPr/>
          <p:nvPr/>
        </p:nvSpPr>
        <p:spPr>
          <a:xfrm>
            <a:off x="609480" y="160020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3"/>
          <p:cNvSpPr/>
          <p:nvPr/>
        </p:nvSpPr>
        <p:spPr>
          <a:xfrm>
            <a:off x="611280" y="765000"/>
            <a:ext cx="5029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二</a:t>
            </a:r>
            <a:r>
              <a:rPr b="1" lang="zh-CN" sz="2800" spc="-1" strike="noStrike">
                <a:solidFill>
                  <a:srgbClr val="cc0099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c00000"/>
                </a:solidFill>
                <a:latin typeface="Perpetua"/>
                <a:ea typeface="华文中宋"/>
              </a:rPr>
              <a:t> 生活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4"/>
          <p:cNvSpPr/>
          <p:nvPr/>
        </p:nvSpPr>
        <p:spPr>
          <a:xfrm>
            <a:off x="4495680" y="2590920"/>
            <a:ext cx="0" cy="35049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1905120" y="266688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白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172200" y="2514600"/>
            <a:ext cx="685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eded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38086"/>
                </a:solidFill>
                <a:latin typeface="Georgia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1676520" y="3429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前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5486400" y="3352680"/>
            <a:ext cx="19051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无鞭毛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Perpetua"/>
              </a:rPr>
              <a:t>（巨噬细胞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9"/>
          <p:cNvGrpSpPr/>
          <p:nvPr/>
        </p:nvGrpSpPr>
        <p:grpSpPr>
          <a:xfrm>
            <a:off x="3733920" y="4343400"/>
            <a:ext cx="1752120" cy="152280"/>
            <a:chOff x="3733920" y="4343400"/>
            <a:chExt cx="1752120" cy="152280"/>
          </a:xfrm>
        </p:grpSpPr>
        <p:sp>
          <p:nvSpPr>
            <p:cNvPr id="250" name="Line 10"/>
            <p:cNvSpPr/>
            <p:nvPr/>
          </p:nvSpPr>
          <p:spPr>
            <a:xfrm>
              <a:off x="3733920" y="449568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11"/>
            <p:cNvSpPr/>
            <p:nvPr/>
          </p:nvSpPr>
          <p:spPr>
            <a:xfrm>
              <a:off x="5235840" y="434340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12"/>
          <p:cNvGrpSpPr/>
          <p:nvPr/>
        </p:nvGrpSpPr>
        <p:grpSpPr>
          <a:xfrm>
            <a:off x="3734280" y="4647960"/>
            <a:ext cx="1752120" cy="152280"/>
            <a:chOff x="3734280" y="4647960"/>
            <a:chExt cx="1752120" cy="152280"/>
          </a:xfrm>
        </p:grpSpPr>
        <p:sp>
          <p:nvSpPr>
            <p:cNvPr id="253" name="Line 13"/>
            <p:cNvSpPr/>
            <p:nvPr/>
          </p:nvSpPr>
          <p:spPr>
            <a:xfrm flipH="1">
              <a:off x="3734280" y="4647960"/>
              <a:ext cx="1752120" cy="0"/>
            </a:xfrm>
            <a:prstGeom prst="line">
              <a:avLst/>
            </a:prstGeom>
            <a:ln w="3816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14"/>
            <p:cNvSpPr/>
            <p:nvPr/>
          </p:nvSpPr>
          <p:spPr>
            <a:xfrm flipH="1" flipV="1">
              <a:off x="3734280" y="4647960"/>
              <a:ext cx="250200" cy="1522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5"/>
          <p:cNvSpPr/>
          <p:nvPr/>
        </p:nvSpPr>
        <p:spPr>
          <a:xfrm>
            <a:off x="5867280" y="4267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1828800" y="40384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66"/>
                </a:solidFill>
                <a:latin typeface="Perpetua"/>
              </a:rPr>
              <a:t>大量繁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7"/>
          <p:cNvGrpSpPr/>
          <p:nvPr/>
        </p:nvGrpSpPr>
        <p:grpSpPr>
          <a:xfrm>
            <a:off x="5257800" y="3733920"/>
            <a:ext cx="2514600" cy="1452600"/>
            <a:chOff x="5257800" y="3733920"/>
            <a:chExt cx="2514600" cy="1452600"/>
          </a:xfrm>
        </p:grpSpPr>
        <p:sp>
          <p:nvSpPr>
            <p:cNvPr id="258" name="Arc 18"/>
            <p:cNvSpPr/>
            <p:nvPr/>
          </p:nvSpPr>
          <p:spPr>
            <a:xfrm>
              <a:off x="5257800" y="373536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19"/>
            <p:cNvSpPr/>
            <p:nvPr/>
          </p:nvSpPr>
          <p:spPr>
            <a:xfrm flipV="1">
              <a:off x="5562360" y="373392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Group 20"/>
          <p:cNvGrpSpPr/>
          <p:nvPr/>
        </p:nvGrpSpPr>
        <p:grpSpPr>
          <a:xfrm>
            <a:off x="1219320" y="3809880"/>
            <a:ext cx="2514600" cy="1452600"/>
            <a:chOff x="1219320" y="3809880"/>
            <a:chExt cx="2514600" cy="1452600"/>
          </a:xfrm>
        </p:grpSpPr>
        <p:sp>
          <p:nvSpPr>
            <p:cNvPr id="261" name="Arc 21"/>
            <p:cNvSpPr/>
            <p:nvPr/>
          </p:nvSpPr>
          <p:spPr>
            <a:xfrm>
              <a:off x="1219320" y="3811320"/>
              <a:ext cx="2514600" cy="1451160"/>
            </a:xfrm>
            <a:prstGeom prst="pie">
              <a:avLst/>
            </a:prstGeom>
            <a:noFill/>
            <a:ln w="76320">
              <a:solidFill>
                <a:srgbClr val="5354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22"/>
            <p:cNvSpPr/>
            <p:nvPr/>
          </p:nvSpPr>
          <p:spPr>
            <a:xfrm flipV="1">
              <a:off x="1523880" y="3809880"/>
              <a:ext cx="152640" cy="76320"/>
            </a:xfrm>
            <a:prstGeom prst="line">
              <a:avLst/>
            </a:prstGeom>
            <a:ln w="76320">
              <a:solidFill>
                <a:srgbClr val="53548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23"/>
          <p:cNvSpPr/>
          <p:nvPr/>
        </p:nvSpPr>
        <p:spPr>
          <a:xfrm>
            <a:off x="3733920" y="38862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Perpetua"/>
              </a:rPr>
              <a:t>白蛉叮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876920" y="68580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6477120" y="1066680"/>
            <a:ext cx="19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5029200" y="2362320"/>
            <a:ext cx="1066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3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I:\教学\大专教材\ch\10-1.tif"/>
          <p:cNvPicPr/>
          <p:nvPr/>
        </p:nvPicPr>
        <p:blipFill>
          <a:blip r:embed="rId1"/>
          <a:stretch/>
        </p:blipFill>
        <p:spPr>
          <a:xfrm>
            <a:off x="684360" y="614520"/>
            <a:ext cx="782784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332000" y="2276640"/>
            <a:ext cx="705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前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致病阶段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无鞭毛体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感染途径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白蛉叮咬  </a:t>
            </a:r>
            <a:r>
              <a:rPr b="1" lang="zh-CN" sz="2000" spc="-1" strike="noStrike">
                <a:solidFill>
                  <a:srgbClr val="000000"/>
                </a:solidFill>
                <a:latin typeface="Perpetua"/>
              </a:rPr>
              <a:t>也可经输血感染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a103c"/>
                </a:solidFill>
                <a:latin typeface="Perpetua"/>
              </a:rPr>
              <a:t>寄生部位</a:t>
            </a:r>
            <a:r>
              <a:rPr b="1" lang="zh-CN" sz="3200" spc="-1" strike="noStrike">
                <a:solidFill>
                  <a:srgbClr val="000000"/>
                </a:solidFill>
                <a:latin typeface="Perpetua"/>
              </a:rPr>
              <a:t>：单核巨噬细胞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826920" y="981000"/>
            <a:ext cx="236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38086"/>
                </a:solidFill>
                <a:latin typeface="Perpetua"/>
              </a:rPr>
              <a:t>要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755640" y="54936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三</a:t>
            </a:r>
            <a:r>
              <a:rPr b="1" lang="zh-CN" sz="2800" spc="-1" strike="noStrike">
                <a:solidFill>
                  <a:srgbClr val="67afbd"/>
                </a:solidFill>
                <a:latin typeface="Arial"/>
              </a:rPr>
              <a:t>、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r>
              <a:rPr b="1" lang="zh-CN" sz="4400" spc="-1" strike="noStrike">
                <a:solidFill>
                  <a:srgbClr val="438086"/>
                </a:solidFill>
                <a:latin typeface="Perpetua"/>
              </a:rPr>
              <a:t>致病</a:t>
            </a:r>
            <a:r>
              <a:rPr b="1" lang="en-US" sz="4400" spc="-1" strike="noStrike">
                <a:solidFill>
                  <a:srgbClr val="438086"/>
                </a:solidFill>
                <a:latin typeface="Perpetu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826920" y="1557360"/>
            <a:ext cx="75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致病机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4"/>
          <p:cNvGrpSpPr/>
          <p:nvPr/>
        </p:nvGrpSpPr>
        <p:grpSpPr>
          <a:xfrm>
            <a:off x="2916360" y="2205000"/>
            <a:ext cx="3047760" cy="3431160"/>
            <a:chOff x="2916360" y="2205000"/>
            <a:chExt cx="3047760" cy="3431160"/>
          </a:xfrm>
        </p:grpSpPr>
        <p:sp>
          <p:nvSpPr>
            <p:cNvPr id="273" name="Text Box 5"/>
            <p:cNvSpPr/>
            <p:nvPr/>
          </p:nvSpPr>
          <p:spPr>
            <a:xfrm>
              <a:off x="3068640" y="2205000"/>
              <a:ext cx="2584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无鞭毛体寄生于单核巨噬细胞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6"/>
            <p:cNvSpPr/>
            <p:nvPr/>
          </p:nvSpPr>
          <p:spPr>
            <a:xfrm>
              <a:off x="3678120" y="3500280"/>
              <a:ext cx="152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引起破坏、增生病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7"/>
            <p:cNvSpPr/>
            <p:nvPr/>
          </p:nvSpPr>
          <p:spPr>
            <a:xfrm>
              <a:off x="2916360" y="5176440"/>
              <a:ext cx="304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Perpetua"/>
                </a:rPr>
                <a:t>主要病变器官：脾、肝、骨髓、淋巴结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8"/>
            <p:cNvSpPr/>
            <p:nvPr/>
          </p:nvSpPr>
          <p:spPr>
            <a:xfrm>
              <a:off x="4363920" y="3043080"/>
              <a:ext cx="0" cy="4568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9"/>
            <p:cNvSpPr/>
            <p:nvPr/>
          </p:nvSpPr>
          <p:spPr>
            <a:xfrm>
              <a:off x="4363920" y="4262040"/>
              <a:ext cx="0" cy="914040"/>
            </a:xfrm>
            <a:prstGeom prst="line">
              <a:avLst/>
            </a:prstGeom>
            <a:ln w="28440">
              <a:solidFill>
                <a:srgbClr val="43808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3T00:42:54Z</dcterms:created>
  <dc:creator>鱼艳荣</dc:creator>
  <dc:description/>
  <dc:language>en-US</dc:language>
  <cp:lastModifiedBy>hzg</cp:lastModifiedBy>
  <dcterms:modified xsi:type="dcterms:W3CDTF">2015-10-05T12:13:51Z</dcterms:modified>
  <cp:revision>75</cp:revision>
  <dc:subject/>
  <dc:title>Leishmania donovani</dc:title>
</cp:coreProperties>
</file>